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06C88-93D2-42D9-9B40-0DC07B66E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6DEDB-52B2-40A2-A0B2-57BFB42C1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BADF6-90D9-4DE5-A67E-A951796FC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09CCA-E793-4711-B983-F755530AE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49074-14EB-4640-A7CA-89707082B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02FB8-2654-4D38-842A-F7AEF39B9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05B31-074C-4BB1-A713-7B03A857E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E59D3-8ECD-4EBF-A4C3-A9229D4A2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65D29-D513-4086-A659-F717F48EA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3B943-3793-40D2-B0E6-E7ECB5A4E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16368-B4D8-4C62-A082-DCF7C062D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EEAA4-AB1D-4323-A24C-AEF390DB0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D905B-6F18-4B27-B8DB-35D5DEEEA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B4731-D33F-4F16-990F-D7B206DD1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76056-0616-42BE-8627-F5282CB81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6C841-890C-4288-812F-46B11A54A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86EB2-2664-4E6D-84DC-790E49F38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58F8D9-9CFB-4EDB-863D-63D22DC55C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7E895-E494-4E10-A1B0-49E307B7A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AA342C-4D90-4E71-A846-D97CDFEA54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036C7-9A38-4C63-8260-873956E84D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84EB2-2C7A-4358-93C7-085C6A9BD2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FF4F1-44CA-4A67-B0B0-3E2AB9CD7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954E63-AA36-4CE2-9FC7-E2A1A3188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FC67E-133F-4E95-B73B-18148E7B1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0E8AD-5F7B-495C-84CB-3748BC417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5FA51-0955-4D93-B71C-1709D6796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5D2E9A-BE87-429B-AD68-F27726D8A8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EF0851-FD37-47E4-A2C2-73B4FBB9FC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12217C-AE71-45F6-A6D3-0EF265050C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8FD2CA-3B06-474A-8E5E-FDAB13B8CE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9135C1-BD47-4715-B16F-727A69E64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FFE8F-8C4B-452A-8298-3D8003B2D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1D8AE-B848-481A-88F5-2B00B5B80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F49401-E3AE-4506-A5F0-05CB9B66A2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E888D-1C3E-485F-801A-9848980B8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0FD89-8AF1-4731-A388-261A2AFADB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C9879F-F839-4F04-8D81-46F87DDE3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80408-AD4C-45BA-94A8-401D1E2C3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FCA3B-7207-45ED-9612-ED6F4EE5F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A4AC50-267C-4639-940E-550DD069DF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77D30F-BCF6-41EA-B511-E60940DCD1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6E9C5F-5659-41DE-B5E7-4A38C2DD93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6FF15C-BB88-4D63-BF3C-F5432E3195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562E4-F2F2-48EE-BF64-555692FAB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38A11C-3AB8-4E14-81AE-78D0D5627C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31D19-8C66-4578-831B-868EA7CF9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37F41B-4E45-4830-A5F5-143762D0D4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D5361-6498-4CAD-9267-C85221966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CF0A56-EDFF-4756-81A7-62E2CF4AF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1F1876-6169-4287-9F28-B06458B0A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17302-FF1F-4A6E-B5ED-BFF291D4CE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D16187-BACF-4BCB-AA6C-E628498C6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8728E-617D-4638-9D71-3F5F76BC86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398CBF-87A4-43E8-9BD0-CE7D5501AC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DA3F6-A798-4840-B2A9-2CFC6EAED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F85FCA-5D6C-4174-AEC5-578F7DEF99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F16C341-DAB7-4FFB-9BD4-85336306BCE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EB9690D-45BE-4DBE-9D3C-C50111B516B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0EB0354-C541-4507-9457-9434ADC3CEB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E75B871-3C75-41E2-BAE4-92C4D105194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99B534-5750-419C-BE07-BA64B59C66B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8FE03C1-2F52-4575-BD45-E8EECFA1D5B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116CCD-C0AA-4274-BC69-414329016B2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FD7111-6F20-4660-9F96-2DD023E44AB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E646C58-7B30-48B9-AD2C-50BC31E7585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4093F-4287-4EC0-871B-E1D9F2C75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A98D670-4195-4418-A976-BBDC85AD9A9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1DFFB77-089B-449F-8D32-9A5101BAADE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E494578-30FB-4422-9E19-16A346A37CE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F9575-BABA-4BF1-B7F9-6FFBFE310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70BB9-4AAB-4AC1-A937-F18FC311F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4671-75BC-4C7E-BF03-5434ADD96FA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FDFD-DBD5-40F5-96DD-54088BB8BFE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0" y="0"/>
            <a:ext cx="9142560" cy="6856560"/>
            <a:chOff x="0" y="0"/>
            <a:chExt cx="9142560" cy="6856560"/>
          </a:xfrm>
        </p:grpSpPr>
        <p:sp>
          <p:nvSpPr>
            <p:cNvPr id="15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3" name=""/>
            <p:cNvGrpSpPr/>
            <p:nvPr/>
          </p:nvGrpSpPr>
          <p:grpSpPr>
            <a:xfrm>
              <a:off x="0" y="0"/>
              <a:ext cx="9142560" cy="6856560"/>
              <a:chOff x="0" y="0"/>
              <a:chExt cx="9142560" cy="6856560"/>
            </a:xfrm>
          </p:grpSpPr>
          <p:sp>
            <p:nvSpPr>
              <p:cNvPr id="15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5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5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6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6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79" name=""/>
              <p:cNvGrpSpPr/>
              <p:nvPr/>
            </p:nvGrpSpPr>
            <p:grpSpPr>
              <a:xfrm>
                <a:off x="0" y="0"/>
                <a:ext cx="9140760" cy="1658880"/>
                <a:chOff x="0" y="0"/>
                <a:chExt cx="9140760" cy="1658880"/>
              </a:xfrm>
            </p:grpSpPr>
            <p:sp>
              <p:nvSpPr>
                <p:cNvPr id="18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0" y="885960"/>
                <a:ext cx="9140760" cy="772920"/>
                <a:chOff x="0" y="885960"/>
                <a:chExt cx="9140760" cy="772920"/>
              </a:xfrm>
            </p:grpSpPr>
            <p:sp>
              <p:nvSpPr>
                <p:cNvPr id="19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419040" y="1649520"/>
                <a:ext cx="8255160" cy="5207040"/>
                <a:chOff x="419040" y="1649520"/>
                <a:chExt cx="8255160" cy="5207040"/>
              </a:xfrm>
            </p:grpSpPr>
            <p:sp>
              <p:nvSpPr>
                <p:cNvPr id="19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7"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18"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19"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5584-C59E-4F52-9F9E-AD280C4633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57" name=""/>
          <p:cNvGrpSpPr/>
          <p:nvPr/>
        </p:nvGrpSpPr>
        <p:grpSpPr>
          <a:xfrm>
            <a:off x="0" y="0"/>
            <a:ext cx="9142560" cy="6856560"/>
            <a:chOff x="0" y="0"/>
            <a:chExt cx="9142560" cy="6856560"/>
          </a:xfrm>
        </p:grpSpPr>
        <p:sp>
          <p:nvSpPr>
            <p:cNvPr id="25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9" name=""/>
            <p:cNvGrpSpPr/>
            <p:nvPr/>
          </p:nvGrpSpPr>
          <p:grpSpPr>
            <a:xfrm>
              <a:off x="0" y="0"/>
              <a:ext cx="9142560" cy="6856560"/>
              <a:chOff x="0" y="0"/>
              <a:chExt cx="9142560" cy="6856560"/>
            </a:xfrm>
          </p:grpSpPr>
          <p:sp>
            <p:nvSpPr>
              <p:cNvPr id="26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6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6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6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6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85" name=""/>
              <p:cNvGrpSpPr/>
              <p:nvPr/>
            </p:nvGrpSpPr>
            <p:grpSpPr>
              <a:xfrm>
                <a:off x="0" y="0"/>
                <a:ext cx="9140760" cy="1658880"/>
                <a:chOff x="0" y="0"/>
                <a:chExt cx="9140760" cy="1658880"/>
              </a:xfrm>
            </p:grpSpPr>
            <p:sp>
              <p:nvSpPr>
                <p:cNvPr id="28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1" name=""/>
              <p:cNvGrpSpPr/>
              <p:nvPr/>
            </p:nvGrpSpPr>
            <p:grpSpPr>
              <a:xfrm>
                <a:off x="0" y="885960"/>
                <a:ext cx="9140760" cy="772920"/>
                <a:chOff x="0" y="885960"/>
                <a:chExt cx="9140760" cy="772920"/>
              </a:xfrm>
            </p:grpSpPr>
            <p:sp>
              <p:nvSpPr>
                <p:cNvPr id="30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4" name=""/>
              <p:cNvGrpSpPr/>
              <p:nvPr/>
            </p:nvGrpSpPr>
            <p:grpSpPr>
              <a:xfrm>
                <a:off x="419040" y="1649520"/>
                <a:ext cx="8255160" cy="5207040"/>
                <a:chOff x="419040" y="1649520"/>
                <a:chExt cx="8255160" cy="5207040"/>
              </a:xfrm>
            </p:grpSpPr>
            <p:sp>
              <p:nvSpPr>
                <p:cNvPr id="30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2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23" name="PlaceHolder 2"/>
          <p:cNvSpPr>
            <a:spLocks noGrp="1"/>
          </p:cNvSpPr>
          <p:nvPr>
            <p:ph type="dt" idx="1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24" name="PlaceHolder 3"/>
          <p:cNvSpPr>
            <a:spLocks noGrp="1"/>
          </p:cNvSpPr>
          <p:nvPr>
            <p:ph type="ftr" idx="11"/>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25" name="PlaceHolder 4"/>
          <p:cNvSpPr>
            <a:spLocks noGrp="1"/>
          </p:cNvSpPr>
          <p:nvPr>
            <p:ph type="sldNum" idx="1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75E1-E33D-410F-B394-9C8421233B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6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6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36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AC06-49B4-4E7B-B436-BD32832B40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0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06"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E32F-F7B0-45C7-856A-E3A95C70016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7"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et The Author!</a:t>
            </a:r>
            <a:endParaRPr b="0" lang="en-US" sz="4400" spc="-1" strike="noStrike">
              <a:solidFill>
                <a:srgbClr val="dbbd71"/>
              </a:solidFill>
              <a:latin typeface="Arial"/>
            </a:endParaRPr>
          </a:p>
        </p:txBody>
      </p:sp>
      <p:sp>
        <p:nvSpPr>
          <p:cNvPr id="4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is power point was created by    </a:t>
            </a:r>
            <a:r>
              <a:rPr b="0" lang="en-US" sz="3200" spc="-1" strike="noStrike">
                <a:solidFill>
                  <a:srgbClr val="ffffff"/>
                </a:solidFill>
                <a:latin typeface="Tahoma"/>
              </a:rPr>
              <a:t>	</a:t>
            </a:r>
            <a:r>
              <a:rPr b="0" lang="en-US" sz="3200" spc="-1" strike="noStrike">
                <a:solidFill>
                  <a:srgbClr val="ffffff"/>
                </a:solidFill>
                <a:latin typeface="Tahoma"/>
              </a:rPr>
              <a:t>  Madison Evans and Kadidja Ko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46" name=""/>
          <p:cNvSpPr txBox="1"/>
          <p:nvPr/>
        </p:nvSpPr>
        <p:spPr>
          <a:xfrm>
            <a:off x="762120" y="685800"/>
            <a:ext cx="7162560" cy="1600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elief in the Afterlife!</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47" name="PlaceHolder 1"/>
          <p:cNvSpPr>
            <a:spLocks noGrp="1"/>
          </p:cNvSpPr>
          <p:nvPr>
            <p:ph/>
          </p:nvPr>
        </p:nvSpPr>
        <p:spPr>
          <a:xfrm>
            <a:off x="457200" y="3198960"/>
            <a:ext cx="8229600" cy="2931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gyptian’s hearts would be weighed by Anubis if they had a heavy heart they would go to heaven! They better hope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at it is heav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 want my mummy!!</a:t>
            </a:r>
            <a:endParaRPr b="0" lang="en-US" sz="4400" spc="-1" strike="noStrike">
              <a:solidFill>
                <a:srgbClr val="ccecff"/>
              </a:solidFill>
              <a:latin typeface="Arial"/>
            </a:endParaRPr>
          </a:p>
        </p:txBody>
      </p:sp>
      <p:sp>
        <p:nvSpPr>
          <p:cNvPr id="44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Egyptians would wrap the recently deceased in satin cloth to preserve the bodies. Then they would put them in there own specific tombs. The Egyptians sacrificed many animals but, mainly hors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06360"/>
            <a:ext cx="8229600" cy="137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 going rowing in the afterlife river. Isn't death fine!</a:t>
            </a:r>
            <a:endParaRPr b="0" lang="en-US" sz="4000" spc="-1" strike="noStrike">
              <a:solidFill>
                <a:srgbClr val="ffffff"/>
              </a:solidFill>
              <a:latin typeface="Tahoma"/>
            </a:endParaRPr>
          </a:p>
        </p:txBody>
      </p:sp>
      <p:sp>
        <p:nvSpPr>
          <p:cNvPr id="4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gyptians believed that the recently deceased traveled to the afterlife on boats! I think that they need to read a little more!          Row, row, row, r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6:56:33Z</dcterms:created>
  <dc:creator>Default</dc:creator>
  <dc:description/>
  <dc:language>en-US</dc:language>
  <cp:lastModifiedBy>Default</cp:lastModifiedBy>
  <dcterms:modified xsi:type="dcterms:W3CDTF">2009-01-16T17:17:03Z</dcterms:modified>
  <cp:revision>4</cp:revision>
  <dc:subject/>
  <dc:title>Slide 1</dc:title>
</cp:coreProperties>
</file>